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hammer.wav" ContentType="audio/x-wav"/>
  <Override PartName="/ppt/media/arrow.wav" ContentType="audio/x-wav"/>
  <Override PartName="/ppt/media/applause.wav" ContentType="audio/x-wav"/>
  <Override PartName="/ppt/media/drumroll.wav" ContentType="audio/x-wav"/>
  <Override PartName="/ppt/media/image6.png" ContentType="image/png"/>
  <Override PartName="/ppt/media/wind.wav" ContentType="audio/x-wav"/>
  <Override PartName="/ppt/media/bomb.wav" ContentType="audio/x-wav"/>
  <Override PartName="/ppt/media/image1.wmf" ContentType="image/x-wmf"/>
  <Override PartName="/ppt/media/image2.wmf" ContentType="image/x-wmf"/>
  <Override PartName="/ppt/media/type.wav" ContentType="audio/x-wav"/>
  <Override PartName="/ppt/media/image3.wmf" ContentType="image/x-wmf"/>
  <Override PartName="/ppt/media/voltage.wav" ContentType="audio/x-wav"/>
  <Override PartName="/ppt/media/image4.wmf" ContentType="image/x-wmf"/>
  <Override PartName="/ppt/media/whoosh.wav" ContentType="audio/x-wav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307-D970-4EF4-854C-CAFBAE30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37E7-4B65-4619-91E3-E8B3047B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2A3-BD70-403E-8BB6-0541D643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524-6738-4E2B-8006-FCA661C9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11B9-5514-4C8D-8778-ACAD2EFC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FF4C-B1D6-41B2-866B-E35F722A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ABF5-3474-42EF-A710-3C87AA77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4FDA-8CD1-480B-9681-85E91F60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3CA3-BEC1-4650-8174-03495506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4CC3-EBA2-4CC0-95F5-C47723E3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10DE-3957-464B-915E-121D6812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1CA6-5ECC-4283-A3ED-F4651A4F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FD1A-3663-46F5-AE91-2F32F20D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64D4-B5DA-46E9-8376-E6A0F5D2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3DAA-DC38-4273-A0F8-A7982377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B5B5-D79B-4E36-B53A-A84CACAB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379A-E469-478A-B4DE-7F8BE192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4ED9-BC2E-407E-8729-131E1BC9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3D8-AE5C-46F8-B39C-FE63E9D0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EFD-42E8-42E9-BE17-4BA50C65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FCD5-E25A-47AF-9C76-39EA4789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499-2AC9-4986-B6F3-8BC1CEB2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BD8-9E10-4ED1-B46B-E443C1E5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68E-EF90-4650-B514-9D449E1A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9AEF-B0E9-4EB7-879E-697B23BFC2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9557-6BB4-4C46-8A3C-2D060F63C6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Cody Zukowski ,Nick and Alex Yanosick 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son He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242712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ander Graham Bell invented the telegraph/teleph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289872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type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orn and whe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ander Graham Bell  was born in Edinburgh  March 3, 184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81480" y="2514600"/>
            <a:ext cx="248292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hoosh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ander Graham Bell was a teacher of deaf peo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2484360" cy="20365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voltage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’s Fath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ander Graham Bell’s father was named Alexander Melville Bell. He also taught the deaf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2543040" cy="25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lexander Graham Bell was 18 he had been working on a idea of transmitting speech electric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Graham Bell patent for the telephone ( granted in 1876) Became the subject of litiga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hammer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880, France bestowed on Bell the 50,000-franc Volta Prize for his inven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127320" y="616680"/>
            <a:ext cx="184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xander Graham 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nd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what we found on Alexander Graham Bell. Thank you for watching our show!!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991040" y="272268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applause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81479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7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8:22:07Z</dcterms:created>
  <dc:creator>Montour School District</dc:creator>
  <dc:description/>
  <dc:language>en-US</dc:language>
  <cp:lastModifiedBy>Montour School District</cp:lastModifiedBy>
  <dcterms:modified xsi:type="dcterms:W3CDTF">2008-04-30T15:39:57Z</dcterms:modified>
  <cp:revision>8</cp:revision>
  <dc:subject/>
  <dc:title>Alexander Graham Bell</dc:title>
</cp:coreProperties>
</file>